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19692"/>
        <c:axId val="92959345"/>
      </c:barChart>
      <c:catAx>
        <c:axId val="77419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59345"/>
        <c:crosses val="autoZero"/>
        <c:auto val="1"/>
        <c:lblAlgn val="ctr"/>
        <c:lblOffset val="100"/>
        <c:noMultiLvlLbl val="0"/>
      </c:catAx>
      <c:valAx>
        <c:axId val="92959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19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E93-5B71-4699-BB1F-8A69726B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F89-0311-4771-B34C-6D3132E8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AA0-69A6-4A01-844A-D1841F95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E37-3DFC-4F7B-A966-BADDAA59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A7A0-E427-4981-8502-B3B29702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969-2B0F-4C8E-A66C-84572BF7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73B-5BC7-408B-9D7F-CC8E95A1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297-14C6-4B1C-984A-69930FEB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4F1-685F-4395-A532-C5314658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5341-D706-4DB5-9F62-0D93DBB3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090-214C-469B-85D5-89686EF5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643-5238-4C9E-929D-B074086A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330C1-6467-48C6-B378-85865E77BB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