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32082"/>
        <c:axId val="30187185"/>
      </c:barChart>
      <c:catAx>
        <c:axId val="323320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87185"/>
        <c:crosses val="autoZero"/>
        <c:auto val="1"/>
        <c:lblAlgn val="ctr"/>
        <c:lblOffset val="100"/>
        <c:noMultiLvlLbl val="0"/>
      </c:catAx>
      <c:valAx>
        <c:axId val="30187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320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EE6-0BF2-4DBB-9069-BDC05078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30C-8925-40A2-AF9A-7F692618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E82A-42DA-4ABB-AF51-F7E77EF7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FEF-C044-40A9-93D7-016377D9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8C6-E379-458A-BDAF-94F53CFB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249-15E2-4BC0-A203-BF4EF6C7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6F77-7CDF-4E94-AF9A-9AD6983F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72F-E041-45D8-8F05-07900AD2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89C-3E40-4A3A-BE07-11D8C20E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5A2-85DF-4E1E-B4C9-78CFF33A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E3D-8B6E-4280-89F4-35E80CEB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2040-2CA0-45D4-8B34-8DA478E9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AC2D4-570F-4E8B-A556-AE718CD025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