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06097"/>
        <c:axId val="77044967"/>
      </c:barChart>
      <c:catAx>
        <c:axId val="72606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44967"/>
        <c:crosses val="autoZero"/>
        <c:auto val="1"/>
        <c:lblAlgn val="ctr"/>
        <c:lblOffset val="100"/>
        <c:noMultiLvlLbl val="0"/>
      </c:catAx>
      <c:valAx>
        <c:axId val="77044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06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AA7-3F87-4D14-A553-E5A7CA3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419-09F6-4312-AAAE-A00C2212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FF4-180B-4CC8-9129-1E50C93C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481-27F5-4CD1-B59A-EC033346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840-ED76-466F-B69B-F0424690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30A-2874-422D-91BC-94EDD1A1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B8A-0B9B-4525-AEC5-4B5F0E4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0C1-B7B9-4007-949A-E72A40DF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02D-AB09-4CF2-BF3D-9BEB3BC4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FAF-22C9-44C7-8712-C512B29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EE0-41AE-47E6-B45D-160A213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2E2-B95A-40D6-98FF-1696CE42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32D77-E19A-44FF-A497-8A3AE69B8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