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87366"/>
        <c:axId val="42676531"/>
      </c:barChart>
      <c:catAx>
        <c:axId val="910873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76531"/>
        <c:crosses val="autoZero"/>
        <c:auto val="1"/>
        <c:lblAlgn val="ctr"/>
        <c:lblOffset val="100"/>
        <c:noMultiLvlLbl val="0"/>
      </c:catAx>
      <c:valAx>
        <c:axId val="426765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873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3E8-110E-44C6-A47A-D98533E3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7EC7-2750-43FE-91D8-56F1FC05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CA9-96DC-4329-A4CE-DFCF8ABA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985-083E-453A-A295-2E956B50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5A6-064C-420B-8C3D-C18C9AE6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011-2733-422B-883F-D661350D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6E8-621E-448B-8042-CF4599CE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60E-09B9-4B89-BC3B-E1D34BB5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294-DD8A-47F7-B5FC-FB83C6A2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2314-67B9-4BA9-9CFE-5032E90A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548-6CA8-4E12-982D-1096037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65F-EBAF-4970-B62B-9F734F8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940F8-1945-408B-8357-369B658284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